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B9E-7CA3-4E27-909C-45BB5D5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027-97BB-44C2-9F50-19649A4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4EC-9BF4-4298-9E57-660B1638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748-AF02-4155-A183-F44224EF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3B1-781C-4FF6-BB82-08B30647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C27-9A78-4BE3-AA3D-BDDCC6AE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83E-5A7A-4310-9766-A03B3DA0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4B9-FB69-4388-A1CF-B742A78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966-3C47-46D1-9C19-CADBD999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6F0-D53A-4564-8225-AEB59CC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555-E225-4FAE-A766-38A388D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A2A-CAE6-4181-81A0-A38B452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DDE4-B3F5-4F99-81C8-4E1C5D44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oetic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De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nds of Po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p--hiss--drip--hiss– fall the raind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aken log which burns, and steam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mokes the ceiling bea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p--hiss--the rain never sto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umpet-vine covered an arbou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the red and gold of its blossom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 and gold like the brass notes of Trumpe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assed through the gates of the cit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streets were strange and still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doors of the open church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organs were moaning shr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the enchanted ladder of his rhyme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 after round and patient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et ever upward clim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consonance, all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nomatopoeia, consonance, repetition, rh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teration, consonance, 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, rhyme,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tition, rhyme, light all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Onomatopo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a word’s pronunciation imitates its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zz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s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n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e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roo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ing a word or words for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, my Dear, are away, away, How wearily goes the creeping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Rhy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ords are arranged in such a way that they make a pattern or 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once was a girl from Chic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yed her hair pink in the bath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wn a solace shut within my hear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arden full of many a quaint de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 the words instead of say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Arial"/>
              </a:rPr>
              <a:t>Rhy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ords have the same end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the beginning, end, or middle of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ll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the first sounds in word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er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ed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kle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m-pinioned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ep and pa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Conso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nson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eat in the middle or end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near rhy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ou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 in on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y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il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va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l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a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a me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ll put some lines of poetry on th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which techniques are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literation, consonance, rhythm, rhyme, and onomatopoe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poems use more than one techn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! To be a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tering on the san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ing back, but le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eringly the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0:48:48Z</dcterms:created>
  <dc:creator>D</dc:creator>
  <dc:description/>
  <dc:language>en-US</dc:language>
  <cp:lastModifiedBy>lorettem</cp:lastModifiedBy>
  <dcterms:modified xsi:type="dcterms:W3CDTF">2015-09-29T16:15:07Z</dcterms:modified>
  <cp:revision>8</cp:revision>
  <dc:subject/>
  <dc:title>poetic devices lesson</dc:title>
</cp:coreProperties>
</file>